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D6CB-8A5B-43E0-AE4A-F62D02AB3F16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設計不只是設計師的事情，一般人其實都在從事設計的事情，設計也不是只有倚靠某方面天份，它其實是可以有系統的學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2ACD-95A9-48C8-BA5C-BEAF33214F6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一切物種原始的學說都不考慮，純粹考慮生物本身對於存活所需要的一切渴望，包括他應該能離開危險，風大的時候可以把自己釘在沙灘上等等能力，這位生物的藝術家花了將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年的時間試著挑戰人性的制度、社會的制度，回歸二進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的單純角度來思考事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9B45-2149-4072-BE3C-ED4AE00E66E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FFE0-7C95-4426-9073-9FB064C29A4C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技術、經濟、生活型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94B8-879E-4280-85AA-440032A23E5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以前從未想過去觀看自然界生存的法則，更沒想到從那裡去學習來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­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變我們的生活，現在反而覺得有很多很多我們可以試著去改善地更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­</a:t>
            </a: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，使我們的生活環境可以演變得更乾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C477-32BE-4CC9-860C-2C173660C4DA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583-DCC4-4606-8AFD-52ED8B03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5178-1990-447E-925E-93331DD0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A4F-23EC-4D08-BEA7-6CCEF6852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924-391E-441F-A23D-6214E08C5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A032-FFAB-4196-BA67-5AE78F62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1608-93C1-429E-8A55-3666BB1A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3627-E9FC-4791-B5FB-E13E5FAE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205B-DA06-4173-95A8-B288217F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1DA4-7405-4C50-AF17-B19BB16F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8A77-0189-4207-A1F5-BD3A35DC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DE33-FB85-4FCC-9304-4D84B04A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08FE-BCE2-4E07-967A-402A7CAB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B941-314F-471D-BC55-78273FFC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1930-3DF9-4C46-A557-4F203767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E75A-2C80-4855-8743-AC582ABB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6FB86-CA89-417D-B5F2-FF90D987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958F-32C3-4D8B-8379-93D8E6C3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E35D-70EC-44A9-90F0-F07FAB70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F4103-7313-4B36-93B9-9DF5DAA7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87FDC-5EFF-49FB-A915-1DBEE228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D513B-3EE6-4313-B3F3-860E9A8E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166E3-C3C1-4022-98A0-CA9F62D7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609-C3DF-4913-A662-0349FD8E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0D4B0-2276-4270-9CDA-4C471DB0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C83EE-811C-4438-9BD9-41D9FEDD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CF047-EF3B-4485-963A-D3E7765D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6FBD9-E803-4EC3-8342-09E6C55F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B1494-30D7-4764-965E-BE1F68B3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C6D39-DACC-48B4-886C-FE4DC0688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0C102-E243-437E-ABB2-7476C890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F38C-2F81-479F-A938-2B264CBD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FF34-3EA7-43BF-BC01-7361C9E1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057-CE3F-4839-A765-ACEDCFA9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433-F54A-4955-8DE6-3EFAC6D6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FE7-D81F-4079-B9B9-CE2784FC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A682-5CE4-4AE0-8CBB-B30A97DF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0356-353E-4AE0-A6CF-449C63D39A0A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49FF-F5C2-4054-A048-F929B3593384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直線接點 6"/>
          <p:cNvSpPr/>
          <p:nvPr/>
        </p:nvSpPr>
        <p:spPr>
          <a:xfrm flipH="1" flipV="1">
            <a:off x="3142800" y="1213920"/>
            <a:ext cx="60008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C5D4-6730-455F-8EC4-9683CE13567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28800" y="2205000"/>
            <a:ext cx="7772400" cy="130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姚仁祿</a:t>
            </a:r>
            <a:r>
              <a:rPr b="1" lang="en-US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『</a:t>
            </a: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什麼是設計</a:t>
            </a:r>
            <a:r>
              <a:rPr b="1" lang="en-US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: </a:t>
            </a: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設計邊境</a:t>
            </a:r>
            <a:r>
              <a:rPr b="1" lang="en-US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』</a:t>
            </a:r>
            <a:br>
              <a:rPr sz="3600"/>
            </a:br>
            <a:r>
              <a:rPr b="1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心得報告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2860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98989"/>
                </a:solidFill>
                <a:latin typeface="微軟正黑體"/>
                <a:ea typeface="微軟正黑體"/>
              </a:rPr>
              <a:t>文大資管數位學習科技組學分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898989"/>
                </a:solidFill>
                <a:latin typeface="微軟正黑體"/>
                <a:ea typeface="微軟正黑體"/>
              </a:rPr>
              <a:t>蔡淑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微軟正黑體"/>
                <a:ea typeface="微軟正黑體"/>
              </a:rPr>
              <a:t>99/10/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Oval 2"/>
          <p:cNvSpPr/>
          <p:nvPr/>
        </p:nvSpPr>
        <p:spPr>
          <a:xfrm>
            <a:off x="3500280" y="1785960"/>
            <a:ext cx="2629080" cy="2628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e9e8b8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5"/>
          <p:cNvSpPr txBox="1"/>
          <p:nvPr/>
        </p:nvSpPr>
        <p:spPr>
          <a:xfrm>
            <a:off x="3662280" y="4714920"/>
            <a:ext cx="240984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80"/>
                </a:solidFill>
                <a:latin typeface="微軟正黑體"/>
              </a:rPr>
              <a:t>謝謝指教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latin typeface="微軟正黑體"/>
              <a:ea typeface="微軟正黑體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2734920" y="5572080"/>
            <a:ext cx="415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Arial Unicode MS"/>
              </a:rPr>
              <a:t>The Shortest Distance to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內容綱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95280" y="191628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介紹建構二十一世紀生活的設計基礎，</a:t>
            </a:r>
            <a:r>
              <a:rPr b="0" lang="zh-TW" sz="1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包括近代科學、科技、人類行為與市場行銷的發展現況與前瞻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並以食、衣、住、行、網路與品牌的個案研究為基礎，探討二十一世紀待開發的設計領域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學習是透過經驗，改變能力或行為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而目前的教育制度，有嚴重的價值觀偏差，太重 視左腦，忽視右腦，以至於</a:t>
            </a:r>
            <a:r>
              <a:rPr b="0" lang="zh-TW" sz="1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創意與直覺，長期被人們忽略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學校的教育體制，多是</a:t>
            </a:r>
            <a:r>
              <a:rPr b="0" lang="zh-TW" sz="1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符合工業革命制度的設計與需求，很容易抹殺了人們的原創性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設計的期望和現況，要如何取得平衡？設法</a:t>
            </a:r>
            <a:r>
              <a:rPr b="0" lang="zh-TW" sz="1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靠近期望的能力等於「設計」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，而無法靠近期望，就會產生焦慮，創意是可以有系統的學習，可以向周遭的大自然學習，</a:t>
            </a:r>
            <a:r>
              <a:rPr b="0" lang="zh-TW" sz="1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可以從家庭學習，更可從同儕的競爭中學習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大自然提供了很多設計的霝感，只是被人們忽略了，</a:t>
            </a:r>
            <a:r>
              <a:rPr b="0" lang="zh-TW" sz="1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身邊週遭有許多細節，都可以是設計巧思的來源</a:t>
            </a:r>
            <a:r>
              <a:rPr b="0" lang="zh-TW" sz="1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資料庫圖表 3" descr=""/>
          <p:cNvPicPr/>
          <p:nvPr/>
        </p:nvPicPr>
        <p:blipFill>
          <a:blip r:embed="rId1"/>
          <a:stretch/>
        </p:blipFill>
        <p:spPr>
          <a:xfrm>
            <a:off x="822240" y="1036800"/>
            <a:ext cx="7645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468360" y="234936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53735"/>
                </a:solidFill>
                <a:latin typeface="微軟正黑體"/>
                <a:ea typeface="微軟正黑體"/>
              </a:rPr>
              <a:t>啟發與應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2286000" y="4071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華康粗黑體"/>
              <a:ea typeface="華康粗黑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華康中黑體"/>
                <a:ea typeface="華康中黑體"/>
              </a:rPr>
              <a:t>挑戰歸零，新創設計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rcRect l="16240" t="22439" r="43012" b="45749"/>
          <a:stretch/>
        </p:blipFill>
        <p:spPr>
          <a:xfrm>
            <a:off x="1403280" y="1989000"/>
            <a:ext cx="6270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651672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7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學習是透過失敗的經驗，改變能力或行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rcRect l="12103" t="23954" r="38285" b="42719"/>
          <a:stretch/>
        </p:blipFill>
        <p:spPr>
          <a:xfrm>
            <a:off x="1187280" y="1989000"/>
            <a:ext cx="69631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設計是讓現況靠近期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rcRect l="12103" t="23954" r="38879" b="42719"/>
          <a:stretch/>
        </p:blipFill>
        <p:spPr>
          <a:xfrm>
            <a:off x="1116000" y="2060640"/>
            <a:ext cx="7469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71520" y="571320"/>
            <a:ext cx="6072120" cy="64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應該學習的是方法和思考的能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rcRect l="12502" t="23488" r="38191" b="40367"/>
          <a:stretch/>
        </p:blipFill>
        <p:spPr>
          <a:xfrm>
            <a:off x="1403280" y="1989000"/>
            <a:ext cx="65534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115640" y="2755800"/>
            <a:ext cx="726444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設計的核心是要改變世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即使是你只是世界中的小小一份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05:38:30Z</dcterms:created>
  <dc:creator>n倪玉旻</dc:creator>
  <dc:description/>
  <dc:language>en-US</dc:language>
  <cp:lastModifiedBy>shtsai</cp:lastModifiedBy>
  <dcterms:modified xsi:type="dcterms:W3CDTF">2010-10-02T04:39:21Z</dcterms:modified>
  <cp:revision>172</cp:revision>
  <dc:subject/>
  <dc:title>投影片 1</dc:title>
</cp:coreProperties>
</file>